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E203-9701-48AF-93EB-349973E20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C7C0-C2EB-4360-A61E-66ECD440D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282B-A3D7-4ACF-8046-6407BFBA7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9557-A40E-46BF-AB1C-D42EE2479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12D97-C64A-4187-9B09-D05EF7043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B045A-FD03-45BE-B825-27B0BC202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BCD9D-04CD-4D0C-9F02-7F1EDE8DA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F75B3-5DFF-4341-8D71-73B5B0CA6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D4D77-90F5-4D9C-822C-AA5D9CB49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63ACB-143D-4041-B456-AF8A98C57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4A9E7-F596-45C2-AB71-D113619B3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D866-CE25-4D2E-87F0-590EC1AAB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E3060-4E33-4E2A-B582-318EA4A51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9EC6D-B2EF-40DF-B6F6-419155C9D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2AC8C-7C75-49EF-B8D9-B95DD8FEB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86B2F-41FB-4409-969A-335C16FCB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02D8D-9D01-4591-B8F7-FFD253B9C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81C3-7D51-46D4-A8E3-0988D88BE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893D-2F54-4CEA-B0A4-15A76D0CE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CFCD-6FDE-4AE4-B624-2B543A337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FE30-8E25-430A-BBCD-D782AB84F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34FC-BD68-440F-A794-75D168D23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B7CA-38D4-4D2D-8CB5-B9D16337B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455A-A166-4136-9099-0C247019B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468DF-1F48-475C-A001-58E1960EE2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52236-4F90-47EB-BC3E-1C395DCDDC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80a1e"/>
                </a:solidFill>
                <a:latin typeface="Arial"/>
              </a:rPr>
              <a:t>Уравнения с одной переменной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50920" y="1916280"/>
            <a:ext cx="864216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Цель :выявить связь между теорией и  практикой при решении уравнений с одной переменн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адачи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провести анализ полученной информаци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определить способы решения уравнени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установить  взаимосвязь теории с практик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Пример 2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680" y="1052280"/>
            <a:ext cx="854064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х(х-1) = 2х       : 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х– 1 =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х =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х = 0 – потеря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авильное решени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х(х- 1)- 2х =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х(х– 1- 2) =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х = 0 или х- 3 =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х =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3640" y="1052640"/>
            <a:ext cx="0" cy="57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Пример 3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68000" y="141264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0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х +2    0     и    х - 3    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х – 15 = 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х = 3 – посторонний корен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755640" y="1557360"/>
            <a:ext cx="3095280" cy="1366560"/>
            <a:chOff x="755640" y="1557360"/>
            <a:chExt cx="3095280" cy="1366560"/>
          </a:xfrm>
        </p:grpSpPr>
        <p:sp>
          <p:nvSpPr>
            <p:cNvPr id="126" name=""/>
            <p:cNvSpPr/>
            <p:nvPr/>
          </p:nvSpPr>
          <p:spPr>
            <a:xfrm>
              <a:off x="755640" y="2302200"/>
              <a:ext cx="3095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62400" y="1557360"/>
              <a:ext cx="1345680" cy="498600"/>
            </a:xfrm>
            <a:prstGeom prst="rect">
              <a:avLst/>
            </a:prstGeom>
            <a:solidFill>
              <a:srgbClr val="0000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5х - 15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55640" y="2425320"/>
              <a:ext cx="1345680" cy="498600"/>
            </a:xfrm>
            <a:prstGeom prst="rect">
              <a:avLst/>
            </a:prstGeom>
            <a:solidFill>
              <a:srgbClr val="0000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(х +2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04880" y="2425320"/>
              <a:ext cx="1345680" cy="498600"/>
            </a:xfrm>
            <a:prstGeom prst="rect">
              <a:avLst/>
            </a:prstGeom>
            <a:solidFill>
              <a:srgbClr val="0000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(х – 3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403280" y="3284640"/>
                <a:ext cx="35712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4140360" y="3284640"/>
                <a:ext cx="35712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e7ff"/>
                </a:solidFill>
                <a:latin typeface="Arial"/>
              </a:rPr>
              <a:t>4х       и       5х+2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186920" y="2204640"/>
            <a:ext cx="748836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ри  х=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4*1 = 5*1+2 – ложно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ри х = -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4*(-2) = 5*(-2)+2 – истинное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9280" y="228240"/>
            <a:ext cx="89647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80a1e"/>
                </a:solidFill>
                <a:latin typeface="Arial"/>
              </a:rPr>
              <a:t>Определение:</a:t>
            </a: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Пусть 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f (x)</a:t>
            </a: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 и 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g (x)</a:t>
            </a: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 - два выражения с переменной </a:t>
            </a:r>
            <a:r>
              <a:rPr b="0" i="1" lang="ru-RU" sz="4400" spc="-1" strike="noStrike">
                <a:solidFill>
                  <a:srgbClr val="b7e7ff"/>
                </a:solidFill>
                <a:latin typeface="Arial"/>
              </a:rPr>
              <a:t>х</a:t>
            </a: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и областью определения Х. Тогда высказывательная форма вида 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f (x) =g (x) </a:t>
            </a: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называется уравнением с одной переменной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Примеры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341360"/>
            <a:ext cx="866304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х =5х+2 Х Є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олько при х = -2 – истинное числовое равенств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х-1)(х+2)=0. Х Є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 х =1 и х =-2 – истинное числовое равенств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3х+1)2=6х+2, 6х+2=6х+2, Х Є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шением является множество действительных чисе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Равносильность уравнений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80a1e"/>
                </a:solidFill>
                <a:latin typeface="Arial"/>
              </a:rPr>
              <a:t>Определение: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Два уравнения называются равносильными, если их множества решений рав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80a1e"/>
                </a:solidFill>
                <a:latin typeface="Arial"/>
              </a:rPr>
              <a:t>Теорема 1: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Пусть уравнение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 (x)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 (x)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задано на множестве Х и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 (x)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- выражение, определенное на том же множестве. Тогда уравнение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 (x)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 (x)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(1)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 (x)+ h (x)=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 (x)+ h (x)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(2) равносильны на множестве Х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Доказательство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множество решений уравнения (1), Т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- множество решений уравнения (2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усть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корень уравнения (1). Тогда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а     Т</a:t>
            </a:r>
            <a:r>
              <a:rPr b="0" i="1" lang="ru-RU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тинное.       +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)+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)=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)+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) – истинно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начит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является также и корнем уравнения (2). Т.е. Т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1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усть теперь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корень уравнения (2).Тогда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в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i="1" lang="ru-RU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)+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)=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)+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(в) – истинное.     -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(в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тинно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начит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является также и корнем уравнения (1). Т.е. Т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2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7164360" y="2205000"/>
                <a:ext cx="3603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619280" y="4005360"/>
                <a:ext cx="33192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⊂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8244000" y="4508640"/>
                <a:ext cx="3603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4572000" y="256536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443640" y="486900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619280" y="6308640"/>
                <a:ext cx="331920" cy="2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⊂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Следствия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91440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сли к обеим частям уравнения прибавить одно и то же число, то получим уравнение, равносильное данном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сли какое- либо слагаемое перенести из одной части уравнения в другую, поменяв знак слагаемого на противоположный, то получим уравнение, равносильное данном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22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80a1e"/>
                </a:solidFill>
                <a:latin typeface="Arial"/>
              </a:rPr>
              <a:t>Теорема 2:</a:t>
            </a:r>
            <a:r>
              <a:rPr b="0" lang="ru-RU" sz="3200" spc="-1" strike="noStrike">
                <a:solidFill>
                  <a:srgbClr val="b7e7ff"/>
                </a:solidFill>
                <a:latin typeface="Arial"/>
              </a:rPr>
              <a:t> Пусть уравнение </a:t>
            </a:r>
            <a:r>
              <a:rPr b="0" lang="en-US" sz="3200" spc="-1" strike="noStrike">
                <a:solidFill>
                  <a:srgbClr val="b7e7ff"/>
                </a:solidFill>
                <a:latin typeface="Arial"/>
              </a:rPr>
              <a:t>f (x)</a:t>
            </a:r>
            <a:r>
              <a:rPr b="0" lang="ru-RU" sz="3200" spc="-1" strike="noStrike">
                <a:solidFill>
                  <a:srgbClr val="b7e7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7e7ff"/>
                </a:solidFill>
                <a:latin typeface="Arial"/>
              </a:rPr>
              <a:t>=</a:t>
            </a:r>
            <a:r>
              <a:rPr b="0" lang="ru-RU" sz="3200" spc="-1" strike="noStrike">
                <a:solidFill>
                  <a:srgbClr val="b7e7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7e7ff"/>
                </a:solidFill>
                <a:latin typeface="Arial"/>
              </a:rPr>
              <a:t>g (x)</a:t>
            </a:r>
            <a:r>
              <a:rPr b="0" lang="ru-RU" sz="3200" spc="-1" strike="noStrike">
                <a:solidFill>
                  <a:srgbClr val="b7e7ff"/>
                </a:solidFill>
                <a:latin typeface="Arial"/>
              </a:rPr>
              <a:t> задано на множестве Х и </a:t>
            </a:r>
            <a:r>
              <a:rPr b="0" lang="en-US" sz="3200" spc="-1" strike="noStrike">
                <a:solidFill>
                  <a:srgbClr val="b7e7ff"/>
                </a:solidFill>
                <a:latin typeface="Arial"/>
              </a:rPr>
              <a:t>h (x)</a:t>
            </a:r>
            <a:r>
              <a:rPr b="0" lang="ru-RU" sz="3200" spc="-1" strike="noStrike">
                <a:solidFill>
                  <a:srgbClr val="b7e7ff"/>
                </a:solidFill>
                <a:latin typeface="Arial"/>
              </a:rPr>
              <a:t> - выражение, определенное на том же множестве и не обращающееся в нуль ни при каких значениях х из множества Х. Тогда уравнение </a:t>
            </a:r>
            <a:r>
              <a:rPr b="0" lang="en-US" sz="3200" spc="-1" strike="noStrike">
                <a:solidFill>
                  <a:srgbClr val="b7e7ff"/>
                </a:solidFill>
                <a:latin typeface="Arial"/>
              </a:rPr>
              <a:t>f (x)</a:t>
            </a:r>
            <a:r>
              <a:rPr b="0" lang="ru-RU" sz="3200" spc="-1" strike="noStrike">
                <a:solidFill>
                  <a:srgbClr val="b7e7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7e7ff"/>
                </a:solidFill>
                <a:latin typeface="Arial"/>
              </a:rPr>
              <a:t>=</a:t>
            </a:r>
            <a:r>
              <a:rPr b="0" lang="ru-RU" sz="3200" spc="-1" strike="noStrike">
                <a:solidFill>
                  <a:srgbClr val="b7e7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7e7ff"/>
                </a:solidFill>
                <a:latin typeface="Arial"/>
              </a:rPr>
              <a:t>g (x)</a:t>
            </a:r>
            <a:r>
              <a:rPr b="0" lang="ru-RU" sz="3200" spc="-1" strike="noStrike">
                <a:solidFill>
                  <a:srgbClr val="b7e7ff"/>
                </a:solidFill>
                <a:latin typeface="Arial"/>
              </a:rPr>
              <a:t> и </a:t>
            </a:r>
            <a:r>
              <a:rPr b="0" lang="en-US" sz="3200" spc="-1" strike="noStrike">
                <a:solidFill>
                  <a:srgbClr val="b7e7ff"/>
                </a:solidFill>
                <a:latin typeface="Arial"/>
              </a:rPr>
              <a:t>f (x)</a:t>
            </a:r>
            <a:r>
              <a:rPr b="0" lang="ru-RU" sz="3200" spc="-1" strike="noStrike">
                <a:solidFill>
                  <a:srgbClr val="b7e7ff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b7e7ff"/>
                </a:solidFill>
                <a:latin typeface="Arial"/>
              </a:rPr>
              <a:t>h</a:t>
            </a:r>
            <a:r>
              <a:rPr b="0" lang="ru-RU" sz="3200" spc="-1" strike="noStrike">
                <a:solidFill>
                  <a:srgbClr val="b7e7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7e7ff"/>
                </a:solidFill>
                <a:latin typeface="Arial"/>
              </a:rPr>
              <a:t>(x)=</a:t>
            </a:r>
            <a:r>
              <a:rPr b="0" lang="ru-RU" sz="3200" spc="-1" strike="noStrike">
                <a:solidFill>
                  <a:srgbClr val="b7e7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7e7ff"/>
                </a:solidFill>
                <a:latin typeface="Arial"/>
              </a:rPr>
              <a:t>g</a:t>
            </a:r>
            <a:r>
              <a:rPr b="0" lang="ru-RU" sz="3200" spc="-1" strike="noStrike">
                <a:solidFill>
                  <a:srgbClr val="b7e7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7e7ff"/>
                </a:solidFill>
                <a:latin typeface="Arial"/>
              </a:rPr>
              <a:t>(x)</a:t>
            </a:r>
            <a:r>
              <a:rPr b="0" lang="ru-RU" sz="3200" spc="-1" strike="noStrike">
                <a:solidFill>
                  <a:srgbClr val="b7e7ff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b7e7ff"/>
                </a:solidFill>
                <a:latin typeface="Arial"/>
              </a:rPr>
              <a:t>h</a:t>
            </a:r>
            <a:r>
              <a:rPr b="0" lang="ru-RU" sz="3200" spc="-1" strike="noStrike">
                <a:solidFill>
                  <a:srgbClr val="b7e7ff"/>
                </a:solidFill>
                <a:latin typeface="Arial"/>
              </a:rPr>
              <a:t>(х) равносильны на множестве Х</a:t>
            </a:r>
            <a:r>
              <a:rPr b="0" lang="ru-RU" sz="3600" spc="-1" strike="noStrike">
                <a:solidFill>
                  <a:srgbClr val="b7e7ff"/>
                </a:solidFill>
                <a:latin typeface="Arial"/>
              </a:rPr>
              <a:t>.</a:t>
            </a:r>
            <a:br>
              <a:rPr sz="3200"/>
            </a:br>
            <a:r>
              <a:rPr b="0" lang="ru-RU" sz="3200" spc="-1" strike="noStrike">
                <a:solidFill>
                  <a:srgbClr val="d80a1e"/>
                </a:solidFill>
                <a:latin typeface="Arial"/>
              </a:rPr>
              <a:t>Следствие:</a:t>
            </a:r>
            <a:r>
              <a:rPr b="0" lang="ru-RU" sz="3200" spc="-1" strike="noStrike">
                <a:solidFill>
                  <a:srgbClr val="b7e7ff"/>
                </a:solidFill>
                <a:latin typeface="Arial"/>
              </a:rPr>
              <a:t> Если обе части уравнения умножить ( или разделить) на одно и то же число, отличное от нуля, то получим уравнение, равносильное исходному.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51040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Пример 1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320" y="1267920"/>
            <a:ext cx="85914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-       =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 - 2х = 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 = х + 2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 = 3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х =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187280" y="907920"/>
            <a:ext cx="649080" cy="1223280"/>
            <a:chOff x="1187280" y="907920"/>
            <a:chExt cx="649080" cy="1223280"/>
          </a:xfrm>
        </p:grpSpPr>
        <p:sp>
          <p:nvSpPr>
            <p:cNvPr id="105" name=""/>
            <p:cNvSpPr/>
            <p:nvPr/>
          </p:nvSpPr>
          <p:spPr>
            <a:xfrm>
              <a:off x="1187280" y="1568520"/>
              <a:ext cx="649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279080" y="907920"/>
              <a:ext cx="464760" cy="469800"/>
            </a:xfrm>
            <a:prstGeom prst="rect">
              <a:avLst/>
            </a:prstGeom>
            <a:solidFill>
              <a:srgbClr val="0000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х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279080" y="1662120"/>
              <a:ext cx="464760" cy="469080"/>
            </a:xfrm>
            <a:prstGeom prst="rect">
              <a:avLst/>
            </a:prstGeom>
            <a:solidFill>
              <a:srgbClr val="0000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900000" y="2637000"/>
            <a:ext cx="1296720" cy="1296360"/>
            <a:chOff x="900000" y="2637000"/>
            <a:chExt cx="1296720" cy="1296360"/>
          </a:xfrm>
        </p:grpSpPr>
        <p:sp>
          <p:nvSpPr>
            <p:cNvPr id="109" name=""/>
            <p:cNvSpPr/>
            <p:nvPr/>
          </p:nvSpPr>
          <p:spPr>
            <a:xfrm>
              <a:off x="900000" y="2637000"/>
              <a:ext cx="1296720" cy="499680"/>
            </a:xfrm>
            <a:prstGeom prst="rect">
              <a:avLst/>
            </a:prstGeom>
            <a:solidFill>
              <a:srgbClr val="0000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 - 2х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330920" y="3436200"/>
              <a:ext cx="432720" cy="497160"/>
            </a:xfrm>
            <a:prstGeom prst="rect">
              <a:avLst/>
            </a:prstGeom>
            <a:solidFill>
              <a:srgbClr val="0000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86040" y="3334680"/>
              <a:ext cx="1210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2268360" y="907920"/>
            <a:ext cx="1007640" cy="1223280"/>
            <a:chOff x="2268360" y="907920"/>
            <a:chExt cx="1007640" cy="1223280"/>
          </a:xfrm>
        </p:grpSpPr>
        <p:sp>
          <p:nvSpPr>
            <p:cNvPr id="113" name=""/>
            <p:cNvSpPr/>
            <p:nvPr/>
          </p:nvSpPr>
          <p:spPr>
            <a:xfrm>
              <a:off x="2411640" y="907920"/>
              <a:ext cx="721440" cy="469800"/>
            </a:xfrm>
            <a:prstGeom prst="rect">
              <a:avLst/>
            </a:prstGeom>
            <a:solidFill>
              <a:srgbClr val="0000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х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411640" y="1662120"/>
              <a:ext cx="721440" cy="469080"/>
            </a:xfrm>
            <a:prstGeom prst="rect">
              <a:avLst/>
            </a:prstGeom>
            <a:solidFill>
              <a:srgbClr val="0000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268360" y="1568520"/>
              <a:ext cx="1007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2700360" y="2637000"/>
            <a:ext cx="647280" cy="1223280"/>
            <a:chOff x="2700360" y="2637000"/>
            <a:chExt cx="647280" cy="1223280"/>
          </a:xfrm>
        </p:grpSpPr>
        <p:sp>
          <p:nvSpPr>
            <p:cNvPr id="117" name=""/>
            <p:cNvSpPr/>
            <p:nvPr/>
          </p:nvSpPr>
          <p:spPr>
            <a:xfrm>
              <a:off x="2792520" y="2637000"/>
              <a:ext cx="463320" cy="469440"/>
            </a:xfrm>
            <a:prstGeom prst="rect">
              <a:avLst/>
            </a:prstGeom>
            <a:solidFill>
              <a:srgbClr val="0000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х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92520" y="3391200"/>
              <a:ext cx="463320" cy="469080"/>
            </a:xfrm>
            <a:prstGeom prst="rect">
              <a:avLst/>
            </a:prstGeom>
            <a:solidFill>
              <a:srgbClr val="0000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700360" y="3297240"/>
              <a:ext cx="647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6T10:55:13Z</dcterms:created>
  <dc:creator>1</dc:creator>
  <dc:description/>
  <dc:language>en-US</dc:language>
  <cp:lastModifiedBy>1</cp:lastModifiedBy>
  <dcterms:modified xsi:type="dcterms:W3CDTF">2008-04-03T12:42:06Z</dcterms:modified>
  <cp:revision>6</cp:revision>
  <dc:subject/>
  <dc:title>Уравнения с одной переменной.</dc:title>
</cp:coreProperties>
</file>